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uperb.wav" ContentType="audio/x-wav"/>
  <Override PartName="/ppt/media/voltage.wav" ContentType="audio/x-wav"/>
  <Override PartName="/ppt/media/image2.png" ContentType="image/png"/>
  <Override PartName="/ppt/media/image3.png" ContentType="image/png"/>
  <Override PartName="/ppt/media/image4.gif" ContentType="image/gif"/>
  <Override PartName="/ppt/media/suction.wav" ContentType="audio/x-wav"/>
  <Override PartName="/ppt/media/image5.gif" ContentType="image/gi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938-1196-4D98-BCF2-035AA208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31C-DD6F-4EA0-A0C8-8771AAE9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BDB-B155-4E60-A615-1BBDDA89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2D5-3248-4C1C-B915-80B836AF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F62-4850-4971-99EB-97ABDEA1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125-74F2-4C31-9BF1-A3C8FBE7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2B5-DDFA-4741-9A0A-8ED9B6F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6E2-D6A1-4BD0-AEBE-DE3CD3FF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068-2346-42B1-9B2B-F6FF68E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888-2CB7-4BD3-9D83-C047DC24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89E-76BF-4EC6-8BA9-185EA39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492-B41B-426C-99A0-CD26CDB3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0278-0D1F-43EE-A6E6-3D6EFD42D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superb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starbk"/>
          <p:cNvPicPr/>
          <p:nvPr/>
        </p:nvPicPr>
        <p:blipFill>
          <a:blip r:embed="rId1"/>
          <a:stretch/>
        </p:blipFill>
        <p:spPr>
          <a:xfrm>
            <a:off x="-228600" y="-171360"/>
            <a:ext cx="9601200" cy="7200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nry and Mudge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rry Night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nthia Ry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514600" y="5181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 3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685800" y="2544840"/>
            <a:ext cx="80773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chicken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couldn’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dance very wel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hickendance"/>
          <p:cNvPicPr/>
          <p:nvPr/>
        </p:nvPicPr>
        <p:blipFill>
          <a:blip r:embed="rId2"/>
          <a:stretch/>
        </p:blipFill>
        <p:spPr>
          <a:xfrm>
            <a:off x="4648320" y="0"/>
            <a:ext cx="2590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52280" y="281952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alk in a   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straigh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line, pleas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feet8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4343400" y="30481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52280" y="281952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alk in a   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straigh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line, pleas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eet8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52280" y="2819520"/>
            <a:ext cx="678204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I just    </a:t>
            </a:r>
            <a:r>
              <a:rPr b="0" lang="en-US" sz="117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Tigg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igrrr"/>
          <p:cNvPicPr/>
          <p:nvPr/>
        </p:nvPicPr>
        <p:blipFill>
          <a:blip r:embed="rId2"/>
          <a:stretch/>
        </p:blipFill>
        <p:spPr>
          <a:xfrm>
            <a:off x="7391520" y="2362320"/>
            <a:ext cx="1212840" cy="3581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2971800" y="3200400"/>
            <a:ext cx="4114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52280" y="2819520"/>
            <a:ext cx="678204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I just    </a:t>
            </a:r>
            <a:r>
              <a:rPr b="0" lang="en-US" sz="117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Tigg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igrrr"/>
          <p:cNvPicPr/>
          <p:nvPr/>
        </p:nvPicPr>
        <p:blipFill>
          <a:blip r:embed="rId2"/>
          <a:stretch/>
        </p:blipFill>
        <p:spPr>
          <a:xfrm>
            <a:off x="7391520" y="2362320"/>
            <a:ext cx="1212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76320" y="1828800"/>
            <a:ext cx="6172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y 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mother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is a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eacher"/>
          <p:cNvPicPr/>
          <p:nvPr/>
        </p:nvPicPr>
        <p:blipFill>
          <a:blip r:embed="rId2"/>
          <a:stretch/>
        </p:blipFill>
        <p:spPr>
          <a:xfrm>
            <a:off x="6324480" y="304920"/>
            <a:ext cx="2532240" cy="6181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1752480" y="182880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76320" y="1828800"/>
            <a:ext cx="6172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y 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mother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is a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teacher"/>
          <p:cNvPicPr/>
          <p:nvPr/>
        </p:nvPicPr>
        <p:blipFill>
          <a:blip r:embed="rId2"/>
          <a:stretch/>
        </p:blipFill>
        <p:spPr>
          <a:xfrm>
            <a:off x="6324480" y="304920"/>
            <a:ext cx="25322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762120" y="838080"/>
            <a:ext cx="7924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905120" y="1676520"/>
            <a:ext cx="5257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lov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1143000" y="1752480"/>
            <a:ext cx="7086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starbk"/>
          <p:cNvPicPr/>
          <p:nvPr/>
        </p:nvPicPr>
        <p:blipFill>
          <a:blip r:embed="rId1"/>
          <a:stretch/>
        </p:blipFill>
        <p:spPr>
          <a:xfrm>
            <a:off x="-228600" y="-171360"/>
            <a:ext cx="9601200" cy="720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nt the words one time as they appe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362320" y="220968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838080" y="1752480"/>
            <a:ext cx="784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moth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couldn’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bea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straigh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build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09480" y="35812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Superb!!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clown"/>
          <p:cNvPicPr/>
          <p:nvPr/>
        </p:nvPicPr>
        <p:blipFill>
          <a:blip r:embed="rId2"/>
          <a:stretch/>
        </p:blipFill>
        <p:spPr>
          <a:xfrm>
            <a:off x="6629400" y="762120"/>
            <a:ext cx="16765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per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ome2level"/>
          <p:cNvPicPr/>
          <p:nvPr/>
        </p:nvPicPr>
        <p:blipFill>
          <a:blip r:embed="rId2"/>
          <a:stretch/>
        </p:blipFill>
        <p:spPr>
          <a:xfrm>
            <a:off x="4191120" y="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380880" y="4114800"/>
            <a:ext cx="8763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Dad will  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191120" y="4038480"/>
            <a:ext cx="4114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ome2level"/>
          <p:cNvPicPr/>
          <p:nvPr/>
        </p:nvPicPr>
        <p:blipFill>
          <a:blip r:embed="rId2"/>
          <a:stretch/>
        </p:blipFill>
        <p:spPr>
          <a:xfrm>
            <a:off x="4419720" y="-16524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0" y="3168720"/>
            <a:ext cx="9144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Dad will   </a:t>
            </a:r>
            <a:r>
              <a:rPr b="0" lang="en-US" sz="10600" spc="-1" strike="noStrike">
                <a:solidFill>
                  <a:srgbClr val="ffff00"/>
                </a:solidFill>
                <a:latin typeface="Arial"/>
              </a:rPr>
              <a:t>build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ome2level"/>
          <p:cNvPicPr/>
          <p:nvPr/>
        </p:nvPicPr>
        <p:blipFill>
          <a:blip r:embed="rId2"/>
          <a:stretch/>
        </p:blipFill>
        <p:spPr>
          <a:xfrm>
            <a:off x="4191120" y="-15228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0" y="32767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Father      will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200400"/>
            <a:ext cx="4495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ome2level"/>
          <p:cNvPicPr/>
          <p:nvPr/>
        </p:nvPicPr>
        <p:blipFill>
          <a:blip r:embed="rId2"/>
          <a:stretch/>
        </p:blipFill>
        <p:spPr>
          <a:xfrm>
            <a:off x="4191120" y="-15228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3276720"/>
            <a:ext cx="9144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00"/>
                </a:solidFill>
                <a:latin typeface="Arial"/>
              </a:rPr>
              <a:t>Father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will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04920" y="310824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  bear looked at all the stars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bearbrown"/>
          <p:cNvPicPr/>
          <p:nvPr/>
        </p:nvPicPr>
        <p:blipFill>
          <a:blip r:embed="rId2"/>
          <a:stretch/>
        </p:blipFill>
        <p:spPr>
          <a:xfrm>
            <a:off x="609480" y="762120"/>
            <a:ext cx="2667240" cy="2120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2438280" y="3048120"/>
            <a:ext cx="5334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33520" y="3124080"/>
            <a:ext cx="8076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bear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looked at all the stars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bearbrown"/>
          <p:cNvPicPr/>
          <p:nvPr/>
        </p:nvPicPr>
        <p:blipFill>
          <a:blip r:embed="rId2"/>
          <a:stretch/>
        </p:blipFill>
        <p:spPr>
          <a:xfrm>
            <a:off x="609480" y="762120"/>
            <a:ext cx="26672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685800" y="2544840"/>
            <a:ext cx="80773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chicken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ouldn’t       dance very wel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hickendance"/>
          <p:cNvPicPr/>
          <p:nvPr/>
        </p:nvPicPr>
        <p:blipFill>
          <a:blip r:embed="rId2"/>
          <a:stretch/>
        </p:blipFill>
        <p:spPr>
          <a:xfrm>
            <a:off x="4648320" y="0"/>
            <a:ext cx="2590560" cy="2470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62120" y="3733920"/>
            <a:ext cx="48765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00:04:38Z</dcterms:created>
  <dc:creator>WebMaster</dc:creator>
  <dc:description/>
  <dc:language>en-US</dc:language>
  <cp:lastModifiedBy>Laura McDow</cp:lastModifiedBy>
  <dcterms:modified xsi:type="dcterms:W3CDTF">2010-08-26T00:21:49Z</dcterms:modified>
  <cp:revision>11</cp:revision>
  <dc:subject/>
  <dc:title>Henry and Mudge and the Starry Night by Cynthia Rylant</dc:title>
</cp:coreProperties>
</file>